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FA93-DE43-4B84-BDAC-6C66FEB8A9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22778-D8CF-4FBC-9A15-B195E2B8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8CFC9-4F67-484B-9E03-93490085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C77B3-8E13-4661-B348-2C9820B4434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400D5-E96B-4137-8C7F-38E4672FD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FCF00-FC0D-4745-AA83-16F386E12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7172D-7032-41A6-971B-94AF8707A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66BA-850A-47A5-B209-F2464B560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EC7C-17CA-4019-8278-5D4F933B8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E72DF-E4D3-4984-8D2D-58B019C5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CE1CD-2DD1-402B-BC65-537D37E76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4874C-C558-4AFA-BFBB-3F39DA01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9B4C-5840-4475-907C-216885C8F1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9280"/>
              <a:ext cx="9115560" cy="1818360"/>
              <a:chOff x="28440" y="5039280"/>
              <a:chExt cx="9115560" cy="18183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9280"/>
                <a:ext cx="9115560" cy="18183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928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24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十七章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六、膀胱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根据需要留置尿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七、特殊用物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软垫、支托、阴道模型、丁字带、绷带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体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根治术：平卧位，双腿外展屈膝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或盆底修补术：平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处女膜闭锁及有子宫的先天性无阴道患者：半卧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切口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伤口观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内纱条：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2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4h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取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保持大小便通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的护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尿管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拔尿管前膀胱训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大便的管理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，服石蜡油软化大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积极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正确评估，及时止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同的止痛方法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更换体位、冰敷、止痛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用药后效果评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后护理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，避免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定期门诊复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异常情况及时就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二节  外阴癌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多见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岁以上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鳞状细胞癌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至今尚不明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9" name="图示 1" descr=""/>
          <p:cNvPicPr/>
          <p:nvPr/>
        </p:nvPicPr>
        <p:blipFill>
          <a:blip r:embed="rId1"/>
          <a:stretch/>
        </p:blipFill>
        <p:spPr>
          <a:xfrm>
            <a:off x="847800" y="2639880"/>
            <a:ext cx="784548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4895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一节 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外阴、阴道手术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患者的一般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局部，双侧腹股沟淋巴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甲苯胺蓝染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醋酸液脱色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蓝染部分活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不明原因的外阴瘙痒史、外阴赘生物史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躁、悲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自尊低下、身体意象紊乱、恐惧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：主要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射治疗：不能手术的病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化学药物治疗：晚期或复发癌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慢性疼痛  与晚期肿瘤侵犯神经、血管和淋巴系统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身体意象紊乱  与外阴切除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感染的危险  与患者年龄大、抵抗力低、手术创面大及邻近肛门、尿道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讲解疾病及手术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解释、帮助和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指导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对家属的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前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前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植皮者植皮部位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评估及镇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及活动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引流通畅，伤口观察及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保留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，外阴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合理进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放疗的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照射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8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出现皮肤反应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轻度保护皮肤继续照射，中、重度停止照射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观察，局部清洁干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二节 外阴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癌根治术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复诊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放疗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各复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以后每半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年以后每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包括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生殖器部位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部分尿道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阴道局部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途经阴道的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三节  尿  瘘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：指人体泌尿道与生殖道之间形成的异常通道，患者无法自主排尿，表现为尿液不断外流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阴道瘘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常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尿道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宫颈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输尿管阴道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9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伤：坏死型、创伤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手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晚期癌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放置子宫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漏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皮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路感染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闭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：外阴及阴道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特殊检查：瘘孔位置、性质、大小、数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亚甲蓝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靛胭脂试验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膀胱镜检等其他检查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难产史及盆腔手术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瘤、结合、接受放射治疗、子宫托治疗等相关病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减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助感、自卑、失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为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由结核、肿瘤所致尿瘘者，积极处理原发病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皮肤完整性受损  与长期尿液刺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社交孤立  与长期漏尿，不愿与人交往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阴、阴道手术特点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14" name="图示 1" descr=""/>
          <p:cNvPicPr/>
          <p:nvPr/>
        </p:nvPicPr>
        <p:blipFill>
          <a:blip r:embed="rId1"/>
          <a:stretch/>
        </p:blipFill>
        <p:spPr>
          <a:xfrm>
            <a:off x="884160" y="2962440"/>
            <a:ext cx="77421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留置尿管的护理：使瘘孔高于尿液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患者饮水：每日饮水不少于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000ml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28240" y="134100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坐浴、红外线照射：术前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抗感染治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雌激素：术前半个月，老年妇女或闭经者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般护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体位选择：瘘孔处于高位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管护理：留置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0" lang="zh-CN" sz="22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天拔除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046ca6"/>
              </a:buClr>
              <a:buFont typeface="宋体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避免腹压增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尿瘘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遵医嘱服用抗生素或雌激素药物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个月禁性生活及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瘘修补术后怀孕加强孕期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失败者保持外阴清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24000" y="2276640"/>
            <a:ext cx="88200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节  子宫脱垂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600200" y="5410080"/>
            <a:ext cx="63244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子宫脱垂：指子宫从正常位置沿阴道下降，宫颈外口达坐骨棘水平面以下，甚至子宫全部脱出于阴道口外。常伴有阴道前后壁膨出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概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发病原因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损伤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最主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产后过早参加重体力劳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期慢性咳嗽，排便困难等致腹压增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老年妇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以平卧用力向下屏气子宫下降程度分级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外口距离处女膜缘小于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但未  到达处女膜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已达到处女膜缘但未超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已脱出阴道口，但宫体仍在阴道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重型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宫颈和部分宫体已脱出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颈和子宫体全部脱出至阴道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临床表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无明显表现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主要表现为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下坠感及腰背酸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肿物自阴道脱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排便异常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心理支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提供场所及时间，交流沟通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鼓励积极应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注意遮挡，减少暴露机会和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做好家属工作，配合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辅助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妇科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压力性尿失禁检查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与疾病相关的健康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分娩经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有无慢性咳嗽、盆腹腔肿瘤、便秘等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心理社会状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烦恼、焦虑、情绪低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无症状者无需治疗，有症状者可采取保守治疗或手术治疗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-360" y="1371240"/>
            <a:ext cx="8915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Ⅰ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轻型、年老、生育需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支持疗法：治疗增加腹压的疾病，增加营养，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子宫托治疗：重度子宫脱垂伴盆底肌肉明显萎缩，宫颈、阴道壁有炎症、溃疡者不宜使用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评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治疗原则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手术治疗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保守治疗无效或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Ⅲ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度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Manchester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手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全子宫切除术及阴道前后壁修补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纵膈形成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…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主要护理诊断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焦虑  与长期的子宫脱出影响性生活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疼痛  与子宫下垂牵拉韧带、宫颈，阴道壁溃疡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失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尿潴留  与脱垂的子宫压迫膀胱颈部有关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一、一般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改善一般情况：加强营养，休息，盆底肌肉锻炼，原发病治疗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心理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教会患者子宫托的使用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选择大小合适的子宫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早晨放入，睡前取出，避免久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绝经后妇女同时使用雌激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定期复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天开始阴道准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坐浴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/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阴道冲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积极治疗局部炎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缓解症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护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般外阴、阴道术后护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卧床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尿管留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0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日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避免增加腹压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保持外阴清洁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二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疾病、手术及术后护理相关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练习床上排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后体位维持和肢体锻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护理措施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健康教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出院指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休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个月，定时复查，半年内避免重体力劳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预防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提倡晚婚晚育，避免产程延长，提高助产技术，避免产后过早劳动，治疗增加腹压的慢性疾病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第四节 子宫脱垂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3276360" y="2707920"/>
            <a:ext cx="4103640" cy="16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ac8de"/>
                </a:solidFill>
                <a:latin typeface="宋体"/>
                <a:ea typeface="宋体"/>
              </a:rPr>
              <a:t>谢  谢 ！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、皮肤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一日备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范围上至耻骨联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0cm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，下包括外阴部、肛门周围、臀部及大腿内侧上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/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四、肠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无渣饮食、肠道抗生素、肥皂水洗肠或甘露醇加水口服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夜及术日晨：清洁灌肠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一节 外阴、阴道手术患者的一般护理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手术前准备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】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五、阴道准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00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高锰酸钾溶液坐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前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日：阴道冲洗，每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术日晨：阴道局部消毒，必要时美蓝标记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0:52Z</dcterms:modified>
  <cp:revision>63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